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D6F8-DCF1-4147-B5F2-8381C0CEF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time slot the signal is assigned a frequency band, signal moves around band, immune from narrowband noise interference. Users are defined pseudorandom codes. Time synchronization among users not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Sequence Spread Spectrum – spreads the signal over a wide bandwidth to lower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ations communicate with the Mobile Switching Center which controls subscriber verification, what tower subscriber is near, handoffs, links to Public Switched Telephon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with the same letter reuse the same frequencies, cell clusters are outlined in bold. The typical cluster size is N=7, with a frequency reuse factor of 1/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low power cells, increases the number of possible users by reusing frequencies, for example: we go from 12 conversations with one transmitter to 1200 conversations with 100 smaller transmitters. Note that user power control is critical here. – to prevent interference with adjoining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re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channels =k N; k – group of k channels divided among N cells in a cluster (typically 4,7,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 total number of duplex channels = M S = M k N; M is the number of clusters in a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luster size means that co-channel cells are closer, but higher capacity i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luster size, less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=I^2 + I*J + j^2 for no gaps in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frequency reuse calculation see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is more complex, needs channel occupancy, traffic distribution, signal strength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MSC capabilities, coordination between MS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call between cells, when, where, what chann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user passes between cells, needs voice and control signals to be realloc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power margins = P_handoff –P_minimum =delta, if delta too large, system is handing off frequently, if too low, calls can drop below minimum and be lost due to insufficient time to hand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prioritize handoffs –don’t want to drop calls, better not to let a call be pla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r systems (second generation): Mobile assisted handoffs- mobiles measure signal strength from nearby base stations and reports results to the active base stations, when power from adjacent exceeds that of active, handoff initiated. Good for micro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get complicated for microcells and high-speed users, when users roam into another company’s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make decision at right time, don’t want to switch due to momentary f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power level, loading in adjacent cells, channel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predict user dwell time in cells – works for highways which have known speed ranges and length; not good for microcells, complex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users use larger cells, too many handoffs for microcells and slow users- urban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C tries to estimate use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same tower for different power 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ragging – a slow moving user can have a line-of sight signal be quite strong and signal strength does not decay quickly, this can “stretch”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r systems-spread spectrum users share channels in different cells, received by multiple base st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an’t overcome by increasing power, just causes more interference, need to separate (propogation isolation), Q=D/R, R- radius of cell, D istance between centers of co-channe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– co-channel reuse ratio (N=3,Q=3;N=7,Q=4.6;N=12, Q=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 – signal to interference ratio = S/I=signal power/(sum of all interfer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reduce co-channel interference due to directi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s S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ecise power control needed, can add small cells in dense areas, leave others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new basestations,more hando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H=block coding method for error detection and correction, non-binary, part of Reed-Solomon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 –supervisory tones during voice transmission to confirm that the base station/mobile are properly connected, handshake repeated at least every 250 ms. Mobile decodes and transmits back to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band blank-and-burst encoding- wideband 10 kbps data streams, uses NRZ, Manchester (bi-phase coding), concentrated at 10kHz, sends a wide array of commands to users, uses BCH block codes less than 100 ms in d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method for better spectrum use, break coverage area into sma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timing synchr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vanced versions use channelization where time/frequency domains are split into smaller channels and time slots, then allocated to users, packet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424-84FB-4AB6-829C-2DB1F23F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99F-8464-44CE-89A9-56B7F697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C44-BE12-445D-B478-6A85865F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B88-C57C-4490-A5E4-2606456B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46D-4F59-4154-95B4-1DC580AF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25E-334B-4207-8750-A82A8943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D83-9671-4561-B7BA-30623494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5BD-D304-43E3-9369-19AF771D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9E0-F26D-42D6-9EAD-1641C17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B95-76A2-4B24-8DF7-4BB7762B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8B4-161A-4075-BFE0-5A6AA343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600-CFFE-4F10-88BE-56E10EA8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435B-24F4-4405-AB89-53D7CDC68821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2AA3-FBB1-4F4F-9CFE-92A754BA1A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 to the Advanced Mobile Phone System (AMP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E42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ll 200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r. Julie Dickers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DMA-Code Division Multiple Access:  Frequency Hop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133720" y="2285640"/>
            <a:ext cx="0" cy="2514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800600"/>
            <a:ext cx="50292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752480"/>
            <a:ext cx="38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4343400"/>
            <a:ext cx="76212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733920"/>
            <a:ext cx="7621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3048120"/>
            <a:ext cx="76212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373392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4343400"/>
            <a:ext cx="7617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4343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4343400"/>
            <a:ext cx="76212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3733920"/>
            <a:ext cx="76176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438280"/>
            <a:ext cx="76212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438280"/>
            <a:ext cx="7621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3048120"/>
            <a:ext cx="76176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733920"/>
            <a:ext cx="7621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048120"/>
            <a:ext cx="76212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438280"/>
            <a:ext cx="76176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048120"/>
            <a:ext cx="76212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7DE-E399-4B95-BA01-8A76DCDDC7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645CA-4E09-461A-B229-A1E3A7E2A6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able1.1Mobilestandards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019560" cy="590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C7B-89DF-4477-9B1D-2F92E40FF52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04F2F-D875-4FE9-8AD9-8C07E04C5A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se St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ixed station used for radio communication with mobiles. Located at the center or edge of coverage region. Consists of radio channels, transmit/receive antenna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rol Channel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o channels used for transmission of call setup, request, initiation and other control purpo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ll Duplex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munication system that allows simultaneous two-way communication, transmission reception usually on two different frequencies (FD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989-175C-4C2E-A5D5-906DFF4F51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42D26-BB7C-43FB-831B-9DDE32DEC1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ward Chan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o channel for transmission from base station to mobi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verse chan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o channel for transmission from mobile to base station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ndoff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 of transferring a mobile from one channel or base station to anoth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bile Switching Cent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witching center that coordinates call routing in a large service area. MSC connects cellular base stations and the mobiles to the PSTN (also called Mobile Telephone switching office (MTSO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023-4734-45A7-8ECA-82A4FB9D29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C7B72-D65A-425D-8F89-857CA8A0CD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reless System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2666880"/>
            <a:ext cx="990360" cy="2819520"/>
            <a:chOff x="762120" y="2666880"/>
            <a:chExt cx="990360" cy="2819520"/>
          </a:xfrm>
        </p:grpSpPr>
        <p:sp>
          <p:nvSpPr>
            <p:cNvPr id="115" name=""/>
            <p:cNvSpPr/>
            <p:nvPr/>
          </p:nvSpPr>
          <p:spPr>
            <a:xfrm flipV="1">
              <a:off x="762120" y="2666880"/>
              <a:ext cx="533160" cy="2819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4920" y="2666880"/>
              <a:ext cx="381240" cy="2819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4400" y="4572000"/>
              <a:ext cx="68580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38080" y="4572000"/>
              <a:ext cx="68580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1066680" y="4114800"/>
              <a:ext cx="457200" cy="457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914400" y="4114800"/>
              <a:ext cx="533520" cy="457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066680" y="3733920"/>
              <a:ext cx="38124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1066320" y="3733920"/>
              <a:ext cx="38124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3733920"/>
              <a:ext cx="381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281952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2480" y="2666880"/>
              <a:ext cx="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2666880"/>
              <a:ext cx="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4400" y="2666880"/>
              <a:ext cx="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6520" y="2666880"/>
              <a:ext cx="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pic>
        <p:nvPicPr>
          <p:cNvPr id="129" name="TN00332_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2210040" cy="1098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948000">
            <a:off x="1676160" y="3428640"/>
            <a:ext cx="4647960" cy="30492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ward Lin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904760" y="2666880"/>
            <a:ext cx="4647960" cy="1447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verse Lin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bile Uni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562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048120"/>
            <a:ext cx="4038480" cy="144756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4267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rol or Setup Channe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5E9-A628-43A6-B810-D9D0F96FEA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EF7E0-0759-4566-BCD0-E64176F942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u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fig1.5cellsystem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252-52E9-45F3-AC82-43E0D90A44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89706-415C-4557-BBD7-E01EF74557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ing calls from a cellph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bile sends call initiation request, its ID number to base station on reverse control chan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se station receives and relays to the MS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SC validates user, instructs base station to move mobile to voice channe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se station pages mobile with instru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bile moves to voice chan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SC connects mobile to PST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ice transmission/reception between mobile and base station begi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3C4-04C2-4C1F-AB28-DD11E6817B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446A6-FA10-4492-B226-40B86D5453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ing calls to a cellph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SC receives call from PSTN , sends page to base st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se stations send page on forward control channel to mobi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bile receives page and acknowledges on reverse control channel; sends validation inform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SC validates mobile, asks base station to put user on voice channel pai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se station sends voice channel information on FCC, mobile moves to voice chann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oice transmission/reception initiated; MSC connects with PST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086-66D9-4072-9919-BAED71DF5E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79333-72CC-42D5-B1EC-916CBCD41D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ward/Reverse Chann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fig1.3.forward-reversechannel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3781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43000" y="5334120"/>
            <a:ext cx="698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849-851 Air Mobile, air cellul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851-869 Private land mobile, public safety frequencies, trunk li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3CA-E328-4BF0-BFA8-265ACC4AB5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5BB1E-1872-4B3D-A722-453FC2B9E2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Frequency Re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fig2.1cellreuse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95288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3B2-8BB9-4C77-97A5-2C0B90DD64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B5906-77B6-4669-A286-2E3F5C09AF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odore Rappaport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ireless Communications: Principles &amp; Practi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Prentice-Hall, 199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allagher &amp; Snyder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obile Telecommunications Networking with IS-41, McGraw-Hi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utorial on Mobile Communications from the International Engineering Consortium - on course web s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9F1-8E4A-4791-9864-19CDC6BAC4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46355-6F29-469A-886B-B961C8155E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cat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fig2.2repeatedcells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5019480" cy="4635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243828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=19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i= 3, j=2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233-5EEE-4AB7-930C-808766F2E5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8AED6-B9E3-411D-85E5-F8F222FEFB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ne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ed to assign frequencies to users/ce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xe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ch cell has predetermined number of channe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all channels used, cell is “blocked”, no serv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s can borrow channels from neighboring cel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ynam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permanent alloc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equency band requested from MSC, assigned using reuse distance, blocking probabilities, use of channel, signal strengt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82A-9C10-46DC-9C89-0EE247DE23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A154C-F85B-476B-A453-11C5EEBD51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ndoff Scen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5" name="Fig2.3umbrella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5638680" cy="560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BFD-E293-4259-8F9D-F0313B20937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B21F4-8F49-4C2F-8A77-4790DC4009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brella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fig2.4umbrellacellgif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322-84D2-4893-897C-C0FB1BD437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0A75B-D95E-42EF-B00C-616F7BD1F2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ference and Capac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ference caus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-talk, poor quality,(voice channel)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ocking and missed calls (control channe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-channel inter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quency reuse in nearby cel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jacent channel inter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gnal in adjacent frequency ban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gnals from other cell compan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4EB-A6BD-463A-B6E2-46689DA08B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2E8F0-75BB-47D2-B55A-EE2DAA60D0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-Channel Inter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fig2.5interference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921200" cy="509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145-E979-483B-94E6-339326C18F8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7F1A2-242A-469C-A526-1C1509E416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jacent Channel Inter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es from imperfect filters that allow frequency leakage into the b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ious problem if interferer is nearby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ear-fa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ef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arby mobile transmits on a frequency near to that of a weak mobi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se station receivers need high-Q filters to reject adjacent channel interferenc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3F5-CF72-4878-83AF-17E00C0103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2900B-0438-45A7-A3AB-A4D5429E5E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wer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mobile should use the minimum amount of power to have good quality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se station controls pow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MA power toggles up and down continuously, like delta modul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DMA, AMPS adjusted by base st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6FF-A370-4DAF-A283-0258640899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CFF85-987A-46E8-BEAC-6C05A42DCA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ing Capac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ll Secto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vide cell up into angular sections, typically 3 or 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s reu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ll Split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bdivide cell into smaller cells, increases the number of channels, keep same struc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eds power contro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264-ACF7-490A-BA05-EF9742389F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4D54A-456A-4971-B992-3C11B5736F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Secto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fig2.10cellsectors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427560" cy="57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DA4-EAFF-4588-B7D1-2136BFA68AF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D6D34-0D6F-4C3E-90CE-BCF2815AA2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46 First mobile phones deployed, FM 120KHz, half-duple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50 FM 60KHz, better RF filters avail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d 1960’s: 30KHz, full-duplex, IMTS (Improved Mobile Telephone Service), limited capacity: 12 channels, 543 paying customers in New York City (1976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1A0-FA20-4683-8E41-388F3C2B38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6F05F-6029-4E98-9A27-C612DE05AC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Split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fig2.9cellsplitting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71168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877-E1FB-4A4B-B359-3822CBDFA2A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C08C8-F85F-40FB-A711-427A3A6FC4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PS Spe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Table10.1AmpsSpec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208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C5F-DCA0-4F51-99D7-D4F269A9650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43F69-D470-4008-936C-4D0ADFE671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PS Voice Proces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Fig10.1processing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34400" cy="1976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14400" y="312408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pander – compresses signal in amplitude, roughly 2:1 rat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viation Limiter –assures that the max. deviation is the +/- 12 kHz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deviation limiter filter – LPF, attenuated signal to keep in band and avoid interfering with SAT t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5E7-3084-4AB9-B358-5BE327B1F87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A5977-45A1-4492-B989-A846E2AE15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Cell Spe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-54 – Digital cellular in US, DQPS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136 PC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 95 A – CDMA spread spectr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obal system for mobiles (GSM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DMA with channeliz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958-E09A-419A-B572-5C0A58A69C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5BDA9-0604-4E7C-ADA3-EBAD35381A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838080" y="914400"/>
            <a:ext cx="5638680" cy="2819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ly Mobile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BL00393_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049560" cy="3871800"/>
          </a:xfrm>
          <a:prstGeom prst="rect">
            <a:avLst/>
          </a:prstGeom>
          <a:ln w="0">
            <a:noFill/>
          </a:ln>
        </p:spPr>
      </p:pic>
      <p:pic>
        <p:nvPicPr>
          <p:cNvPr id="57" name="TN00561_" descr=""/>
          <p:cNvPicPr/>
          <p:nvPr/>
        </p:nvPicPr>
        <p:blipFill>
          <a:blip r:embed="rId2"/>
          <a:stretch/>
        </p:blipFill>
        <p:spPr>
          <a:xfrm>
            <a:off x="7086600" y="4267080"/>
            <a:ext cx="1752480" cy="13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3200" y="1295280"/>
            <a:ext cx="2933640" cy="3048120"/>
          </a:xfrm>
          <a:custGeom>
            <a:avLst/>
            <a:gdLst/>
            <a:ahLst/>
            <a:rect l="l" t="t" r="r" b="b"/>
            <a:pathLst>
              <a:path w="1848" h="1920">
                <a:moveTo>
                  <a:pt x="1488" y="0"/>
                </a:moveTo>
                <a:cubicBezTo>
                  <a:pt x="1644" y="92"/>
                  <a:pt x="1800" y="184"/>
                  <a:pt x="1824" y="384"/>
                </a:cubicBezTo>
                <a:cubicBezTo>
                  <a:pt x="1848" y="584"/>
                  <a:pt x="1848" y="968"/>
                  <a:pt x="1632" y="1200"/>
                </a:cubicBezTo>
                <a:cubicBezTo>
                  <a:pt x="1416" y="1432"/>
                  <a:pt x="800" y="1656"/>
                  <a:pt x="528" y="1776"/>
                </a:cubicBezTo>
                <a:cubicBezTo>
                  <a:pt x="256" y="1896"/>
                  <a:pt x="88" y="1896"/>
                  <a:pt x="0" y="192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3137040" cy="3581280"/>
          </a:xfrm>
          <a:custGeom>
            <a:avLst/>
            <a:gdLst/>
            <a:ahLst/>
            <a:rect l="l" t="t" r="r" b="b"/>
            <a:pathLst>
              <a:path w="1976" h="2256">
                <a:moveTo>
                  <a:pt x="1824" y="0"/>
                </a:moveTo>
                <a:cubicBezTo>
                  <a:pt x="1892" y="100"/>
                  <a:pt x="1960" y="200"/>
                  <a:pt x="1968" y="384"/>
                </a:cubicBezTo>
                <a:cubicBezTo>
                  <a:pt x="1976" y="568"/>
                  <a:pt x="1944" y="904"/>
                  <a:pt x="1872" y="1104"/>
                </a:cubicBezTo>
                <a:cubicBezTo>
                  <a:pt x="1800" y="1304"/>
                  <a:pt x="1688" y="1456"/>
                  <a:pt x="1536" y="1584"/>
                </a:cubicBezTo>
                <a:cubicBezTo>
                  <a:pt x="1384" y="1712"/>
                  <a:pt x="1088" y="1808"/>
                  <a:pt x="960" y="1872"/>
                </a:cubicBezTo>
                <a:cubicBezTo>
                  <a:pt x="832" y="1936"/>
                  <a:pt x="928" y="1904"/>
                  <a:pt x="768" y="1968"/>
                </a:cubicBezTo>
                <a:cubicBezTo>
                  <a:pt x="608" y="2032"/>
                  <a:pt x="304" y="2144"/>
                  <a:pt x="0" y="2256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BD05584_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85572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FC8-1CF9-43CF-95D4-D86F363329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CE1A0-9C21-4C2C-A957-D32EF5FB91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ular Commun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68 – Cell concept proposed by AT&amp;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83 – FCC allocates 40 MHz of spectrum in 800 MHz band, 30 kHz for each one-way channel (for full-duplex) analo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nnels split between two carri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re frequencies allocated, 1.8-1.9 GHz, etc. over ti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ndwidth limit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1E8-B7A7-40BD-B4C9-8D0566452C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0EA5E-A0EA-463F-BE00-E0643DAEC6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ular Conce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fig1.5cellsystem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67760" cy="48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629-2C12-4A3F-8CC6-EF53957F1A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DB9F7-CAF0-442F-8BBD-E236F3AD8D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gital Commun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rly 1990’s digital systems begin with the goal of increasing the number of users, D-AM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D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D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D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3FC-0F7E-4559-81D6-AE436381E2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1936F-F49E-42BE-8B18-EC3F4F70F5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DMA-Frequency Division Multiple Ac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143000"/>
            <a:ext cx="6247800" cy="3812400"/>
            <a:chOff x="990720" y="1143000"/>
            <a:chExt cx="6247800" cy="3812400"/>
          </a:xfrm>
        </p:grpSpPr>
        <p:sp>
          <p:nvSpPr>
            <p:cNvPr id="69" name=""/>
            <p:cNvSpPr/>
            <p:nvPr/>
          </p:nvSpPr>
          <p:spPr>
            <a:xfrm flipV="1">
              <a:off x="2209680" y="1676160"/>
              <a:ext cx="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09680" y="4191120"/>
              <a:ext cx="5028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9360" y="44956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1143000"/>
              <a:ext cx="3808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requenc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3429000"/>
              <a:ext cx="27428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09680" y="2209680"/>
              <a:ext cx="2742840" cy="38124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9680" y="2895480"/>
              <a:ext cx="1523520" cy="38124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2895480"/>
              <a:ext cx="2742840" cy="3812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914400" y="51814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Requires no synchronization or central timing, channels independe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D63-2650-45D3-AB89-65C43DD19A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65DD7-382C-4090-8F6F-755063E08D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DMA-Time Division Multiple Access: Fixed S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43000" y="1752480"/>
            <a:ext cx="6019920" cy="3812400"/>
            <a:chOff x="1143000" y="1752480"/>
            <a:chExt cx="6019920" cy="3812400"/>
          </a:xfrm>
        </p:grpSpPr>
        <p:sp>
          <p:nvSpPr>
            <p:cNvPr id="80" name=""/>
            <p:cNvSpPr/>
            <p:nvPr/>
          </p:nvSpPr>
          <p:spPr>
            <a:xfrm flipV="1">
              <a:off x="2133720" y="2285640"/>
              <a:ext cx="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4800600"/>
              <a:ext cx="5029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3400" y="510516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43000" y="1752480"/>
              <a:ext cx="3812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requenc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2666880"/>
              <a:ext cx="762120" cy="2133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0" y="2666880"/>
              <a:ext cx="762120" cy="213372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6720" y="2666880"/>
              <a:ext cx="762120" cy="213372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2666880"/>
              <a:ext cx="762120" cy="2133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D9A-B436-48F9-B1FA-CA93C37744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5403D-258B-4FC6-9B1B-3D647A3BEB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3:23:18Z</dcterms:created>
  <dc:creator>Julie A. Dickerson</dc:creator>
  <dc:description/>
  <dc:language>en-US</dc:language>
  <cp:lastModifiedBy>Julie A. Dickerson</cp:lastModifiedBy>
  <dcterms:modified xsi:type="dcterms:W3CDTF">2001-12-11T21:27:27Z</dcterms:modified>
  <cp:revision>21</cp:revision>
  <dc:subject/>
  <dc:title>Introduction to the Analog Mobile Phone System (AMPS)</dc:title>
</cp:coreProperties>
</file>